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ABFE-A2F7-43B8-82B8-92F23DA0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0E3B-22CB-486E-98F0-EF573220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E726-9516-4D3B-8EAF-BCB16462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6BB5-63F9-465D-A337-5228824B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A0C6-D9C8-4C98-8C03-9CD99DD0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6EEE-9B8E-459E-B904-67ED61AA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EFCB-E6B1-453A-B168-29282F02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8D41-568F-46D6-B583-BBDE1A29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8D0F-5CBB-4BA5-A675-5B67FF7A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9221-443D-4923-9547-99025304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FA71-E642-4542-B23A-59B4753A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EE2-AFA6-40FD-8109-F3BA5EA2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2124000" cy="68580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16200000">
            <a:off x="-3086640" y="3086640"/>
            <a:ext cx="6858000" cy="684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00536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41720" y="5805360"/>
            <a:ext cx="650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2195280" y="5516280"/>
            <a:ext cx="4321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39960" indent="0"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60" indent="-39960">
              <a:spcAft>
                <a:spcPts val="437"/>
              </a:spcAft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9960" indent="-39960">
              <a:spcAft>
                <a:spcPts val="437"/>
              </a:spcAft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60" indent="-39960">
              <a:spcAft>
                <a:spcPts val="437"/>
              </a:spcAft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9960" indent="-39960">
              <a:spcAft>
                <a:spcPts val="437"/>
              </a:spcAft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9960" indent="-39960">
              <a:spcAft>
                <a:spcPts val="437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9960" indent="-39960">
              <a:spcAft>
                <a:spcPts val="437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65360"/>
            <a:ext cx="9144000" cy="111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95640" y="342864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74072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5118" t="0" r="0" b="0"/>
          <a:stretch/>
        </p:blipFill>
        <p:spPr>
          <a:xfrm>
            <a:off x="0" y="0"/>
            <a:ext cx="2133720" cy="164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33520"/>
            <a:ext cx="1333440" cy="632448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528040" y="6524640"/>
            <a:ext cx="6159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5A6A-E38F-4D1A-AEEB-D679D8EFD4DD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65628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3440" y="0"/>
            <a:ext cx="7810560" cy="1025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5123" t="0" r="0" b="0"/>
          <a:stretch/>
        </p:blipFill>
        <p:spPr>
          <a:xfrm>
            <a:off x="0" y="0"/>
            <a:ext cx="1332000" cy="102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167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BMG HR, Mch G, P. Gschwend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846A-79A1-418F-BB2D-A04E2EAA0360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2/01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rpo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7478280" y="14144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42b"/>
                </a:solidFill>
                <a:latin typeface="Minion"/>
                <a:ea typeface="文鼎中黑"/>
              </a:rPr>
              <a:t>Let’s enterprise again! Go!Go!G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05360" y="1890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0"/>
            <a:ext cx="856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Minion"/>
              </a:rPr>
              <a:t>Leadership Quality Analysis @ BMG PHE RD</a:t>
            </a:r>
            <a:br>
              <a:rPr sz="2800"/>
            </a:br>
            <a:r>
              <a:rPr b="0" lang="en-US" sz="2400" spc="-1" strike="noStrike">
                <a:solidFill>
                  <a:srgbClr val="6600cc"/>
                </a:solidFill>
                <a:latin typeface="Minion"/>
              </a:rPr>
              <a:t>Managers assess Managers about results, capabilities and su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52720" y="8174160"/>
            <a:ext cx="1295280" cy="647640"/>
          </a:xfrm>
          <a:prstGeom prst="rect">
            <a:avLst/>
          </a:prstGeom>
          <a:solidFill>
            <a:srgbClr val="6699cc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97080" y="8318520"/>
            <a:ext cx="1079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8102520"/>
            <a:ext cx="33843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SPP-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EFA/DR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and Feedback during staff dial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3002040"/>
            <a:ext cx="1803240" cy="1684440"/>
          </a:xfrm>
          <a:prstGeom prst="ellipse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992160"/>
            <a:ext cx="8137440" cy="64260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efinition: The LQA is planned as a part of the feedback-tools of BMG PHE 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47640" y="3070080"/>
            <a:ext cx="1619280" cy="1366920"/>
          </a:xfrm>
          <a:prstGeom prst="rightArrow">
            <a:avLst>
              <a:gd name="adj1" fmla="val 50000"/>
              <a:gd name="adj2" fmla="val 29615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Peer-Feedb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Minio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Minion"/>
              </a:rPr>
              <a:t>(plann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80000" y="4797360"/>
            <a:ext cx="1366560" cy="1440000"/>
          </a:xfrm>
          <a:prstGeom prst="upArrow">
            <a:avLst>
              <a:gd name="adj1" fmla="val 50000"/>
              <a:gd name="adj2" fmla="val 26344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LPF </a:t>
            </a:r>
            <a:br>
              <a:rPr sz="18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(Leadership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Performance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Minion"/>
              </a:rPr>
              <a:t>Feedback</a:t>
            </a:r>
            <a:r>
              <a:rPr b="0" lang="de-DE" sz="1200" spc="-1" strike="noStrike">
                <a:solidFill>
                  <a:srgbClr val="000000"/>
                </a:solidFill>
                <a:latin typeface="Minio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1440" y="1413000"/>
            <a:ext cx="1366920" cy="1439640"/>
          </a:xfrm>
          <a:prstGeom prst="downArrow">
            <a:avLst>
              <a:gd name="adj1" fmla="val 50000"/>
              <a:gd name="adj2" fmla="val 26330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EF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LQ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(pilo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0320" y="3373560"/>
            <a:ext cx="163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Pers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who receiv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Minion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51640" y="3068640"/>
            <a:ext cx="1296720" cy="11523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99320" y="3324240"/>
            <a:ext cx="787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Minion"/>
              </a:rPr>
              <a:t>36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Minion"/>
              </a:rPr>
              <a:t>(not as a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Minion"/>
              </a:rPr>
              <a:t> standar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052720" y="8174160"/>
            <a:ext cx="1295280" cy="647640"/>
          </a:xfrm>
          <a:prstGeom prst="rect">
            <a:avLst/>
          </a:prstGeom>
          <a:solidFill>
            <a:srgbClr val="6699cc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97080" y="8318520"/>
            <a:ext cx="1079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8102520"/>
            <a:ext cx="33843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SPP-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results in EFA/DR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and Feedback during staff dial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981000"/>
            <a:ext cx="8137440" cy="258588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Go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Evaluation of results, capabilities and suitability of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Preparation of managers/employees for EFA-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Survey of the department‘s stren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efinition of individual Action Plans to foster the individual development and to strenghthen the department‘s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3573360"/>
            <a:ext cx="8137440" cy="78552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Target-gro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Managers/employees until 2 levels below Head of BMG PHE 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4665600"/>
            <a:ext cx="8137440" cy="105984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Cont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Assessment about results, capabilities and suitability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of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2668680"/>
            <a:ext cx="8137440" cy="120276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Concep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Yearly assessment (based on SLF – pending further not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Managers assess their managers/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907920"/>
            <a:ext cx="8137440" cy="189432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Data on Job-Person-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Action plans for personal development together with personal HR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"/>
              </a:rPr>
              <a:t>(e.g. Coaching, Qualification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980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44360" y="4624560"/>
            <a:ext cx="14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Evaluation </a:t>
            </a:r>
            <a:br>
              <a:rPr sz="1600"/>
            </a:b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hr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MG PHE 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000" y="4581360"/>
            <a:ext cx="1800000" cy="10796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" y="4627440"/>
            <a:ext cx="160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irst, volun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n March 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0836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97480" y="4826160"/>
            <a:ext cx="144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Feedback </a:t>
            </a:r>
            <a:br>
              <a:rPr sz="1600"/>
            </a:b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o manag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4581360"/>
            <a:ext cx="1800000" cy="10796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42760" y="4675320"/>
            <a:ext cx="203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Defini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improvement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(max.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08720" y="4581360"/>
            <a:ext cx="1800360" cy="1079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f83db"/>
              </a:gs>
              <a:gs pos="50000">
                <a:srgbClr val="cc99ff">
                  <a:alpha val="23137"/>
                </a:srgbClr>
              </a:gs>
              <a:gs pos="100000">
                <a:srgbClr val="af83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74080" y="4675320"/>
            <a:ext cx="171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pe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of Assess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6 months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" y="4046400"/>
            <a:ext cx="38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00cc"/>
                </a:solidFill>
                <a:latin typeface="Minion"/>
              </a:rPr>
              <a:t>Pilot at BMG PHE RD –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0" t="15979" r="0" b="0"/>
          <a:stretch/>
        </p:blipFill>
        <p:spPr>
          <a:xfrm>
            <a:off x="468360" y="1978200"/>
            <a:ext cx="7591320" cy="4330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95280" y="99864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ership results are evaluated regarding the categories financials, employees, customers and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65276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1/2) – Leadership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422280" y="-792000"/>
            <a:ext cx="9990000" cy="8448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-396720" y="-819000"/>
            <a:ext cx="99374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396720" y="1628640"/>
            <a:ext cx="14396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396720" y="6858000"/>
            <a:ext cx="9937440" cy="81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80360" y="1557360"/>
            <a:ext cx="2160360" cy="61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62064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ership results are evaluated regarding the capabilities Drive, Focus, Impact,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134136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2/2) – Leadership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-387360"/>
            <a:ext cx="856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Minion"/>
              </a:rPr>
              <a:t>Leadership Quality Analysis @ BMG PHE RD</a:t>
            </a:r>
            <a:br>
              <a:rPr sz="2800"/>
            </a:br>
            <a:r>
              <a:rPr b="0" lang="en-US" sz="2400" spc="-1" strike="noStrike">
                <a:solidFill>
                  <a:srgbClr val="6600cc"/>
                </a:solidFill>
                <a:latin typeface="Minion"/>
              </a:rPr>
              <a:t>Managers assess Managers about results, capabilities and su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0" t="15051" r="0" b="0"/>
          <a:stretch/>
        </p:blipFill>
        <p:spPr>
          <a:xfrm>
            <a:off x="1403280" y="1628640"/>
            <a:ext cx="7489800" cy="4683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332000" y="260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evaluation regarding the managers suitability is a main issue in the L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98100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2/2) – Manager´s Suit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-396720" y="-819000"/>
            <a:ext cx="9990000" cy="84484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-422280" y="-792000"/>
            <a:ext cx="9990000" cy="8448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-396720" y="-819000"/>
            <a:ext cx="99374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396720" y="1413000"/>
            <a:ext cx="1584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396720" y="6381720"/>
            <a:ext cx="993744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80360" y="1341360"/>
            <a:ext cx="2160360" cy="62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4365720"/>
            <a:ext cx="57610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549360"/>
            <a:ext cx="84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rete measures are taken as consequence of the Leadership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-458640"/>
            <a:ext cx="856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Minion"/>
              </a:rPr>
              <a:t>Leadership Quality Analysis @ BMG PHE RD</a:t>
            </a:r>
            <a:br>
              <a:rPr sz="2800"/>
            </a:br>
            <a:r>
              <a:rPr b="0" lang="en-US" sz="2400" spc="-1" strike="noStrike">
                <a:solidFill>
                  <a:srgbClr val="6600cc"/>
                </a:solidFill>
                <a:latin typeface="Minion"/>
              </a:rPr>
              <a:t>Managers assess Managers about results, capabilities and su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422280" y="-792000"/>
            <a:ext cx="9990000" cy="84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15051" r="0" b="0"/>
          <a:stretch/>
        </p:blipFill>
        <p:spPr>
          <a:xfrm>
            <a:off x="466560" y="1698480"/>
            <a:ext cx="7490160" cy="4683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68360" y="71136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evaluation regarding the managers suitability is a main issue in the L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29240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Leadership Quality Analysis (2/2) – Manager´s Suit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08:43:04Z</dcterms:created>
  <dc:creator>knectahz</dc:creator>
  <dc:description/>
  <dc:language>en-US</dc:language>
  <cp:lastModifiedBy>Siegfried Bocionek</cp:lastModifiedBy>
  <dcterms:modified xsi:type="dcterms:W3CDTF">2006-03-20T08:06:34Z</dcterms:modified>
  <cp:revision>11</cp:revision>
  <dc:subject/>
  <dc:title>Agenda</dc:title>
</cp:coreProperties>
</file>